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3783-E5BF-41DA-A41C-46584FF7C3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4D50-1E77-479D-9B75-F6EEBEF03E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C9C5-1613-444C-AD3B-566361B6E6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893D-CB10-41DF-9EFD-32AE049CB1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8C44-CDE9-4DDA-AEB6-358276B9F9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C4A9-5C82-40DE-AB13-9DCEFD11C9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D7AD-E22D-4B88-BA77-9456208C91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5AB8-E4C8-4AF6-80C6-D3D25D7145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368F-3A10-44ED-A3D5-A962E0E23A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Pゴシック"/>
              </a:rPr>
              <a:t>Wilson Administration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7" descr="2696038_edit"/>
          <p:cNvPicPr/>
          <p:nvPr/>
        </p:nvPicPr>
        <p:blipFill>
          <a:blip r:embed="rId1"/>
          <a:stretch/>
        </p:blipFill>
        <p:spPr>
          <a:xfrm>
            <a:off x="3352680" y="2286000"/>
            <a:ext cx="2413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10"/>
          <p:cNvSpPr/>
          <p:nvPr/>
        </p:nvSpPr>
        <p:spPr>
          <a:xfrm flipH="1" rot="10800000">
            <a:off x="1104840" y="1294920"/>
            <a:ext cx="6934320" cy="2514600"/>
          </a:xfrm>
          <a:prstGeom prst="upArrowCallout">
            <a:avLst>
              <a:gd name="adj1" fmla="val 40628"/>
              <a:gd name="adj2" fmla="val 42896"/>
              <a:gd name="adj3" fmla="val 27056"/>
              <a:gd name="adj4" fmla="val 66151"/>
            </a:avLst>
          </a:prstGeom>
          <a:gradFill rotWithShape="0">
            <a:gsLst>
              <a:gs pos="0">
                <a:srgbClr val="ffcc66">
                  <a:alpha val="97254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295280" y="137160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ilson pushed Congress to pass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Federal Reserve A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of 1913. It established a system of regional banks to hold reserve funds for the natio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commercial bank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371600" y="380988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ll in place today, the Federal Reserve protects the American economy from having too much money end up in the hands of one person, bank, or reg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41008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eviously, a few wealthy bankers could manipulate interest rates for their own prof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6"/>
          <p:cNvSpPr/>
          <p:nvPr/>
        </p:nvSpPr>
        <p:spPr>
          <a:xfrm flipH="1" rot="10800000">
            <a:off x="746280" y="1424160"/>
            <a:ext cx="7619760" cy="1852560"/>
          </a:xfrm>
          <a:prstGeom prst="upArrowCallout">
            <a:avLst>
              <a:gd name="adj1" fmla="val 36336"/>
              <a:gd name="adj2" fmla="val 33647"/>
              <a:gd name="adj3" fmla="val 24505"/>
              <a:gd name="adj4" fmla="val 6605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855720" y="1676520"/>
            <a:ext cx="745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ilson strengthened antitrust laws. Like Roosevelt, 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focused on trusts that used unfair practi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447920" y="5029200"/>
            <a:ext cx="6400800" cy="1099440"/>
          </a:xfrm>
          <a:prstGeom prst="rect">
            <a:avLst/>
          </a:prstGeom>
          <a:solidFill>
            <a:srgbClr val="e8eae9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till in effect today, the FTC also prosecutes dishonest stock traders and regulates Internet sa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447920" y="335268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Federal Trade Commission (FTC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as created in 1914 to monitor businesses to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prevent monopolies, false advertising, and dishonest labeling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Parchment2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838080" y="1523880"/>
            <a:ext cx="4419720" cy="42674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1360440" y="2286000"/>
            <a:ext cx="3124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14,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layton Antitrust Ac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defined specific activities in which businesses could not eng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5105520" y="2514600"/>
            <a:ext cx="3429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Clayton Act also protect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union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from being defined as trusts, allowing them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more freedom to organize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"/>
          <p:cNvSpPr/>
          <p:nvPr/>
        </p:nvSpPr>
        <p:spPr>
          <a:xfrm flipH="1" rot="5400000">
            <a:off x="1027800" y="1485720"/>
            <a:ext cx="3200400" cy="3429000"/>
          </a:xfrm>
          <a:prstGeom prst="upArrowCallout">
            <a:avLst>
              <a:gd name="adj1" fmla="val 13103"/>
              <a:gd name="adj2" fmla="val 12204"/>
              <a:gd name="adj3" fmla="val 18169"/>
              <a:gd name="adj4" fmla="val 42341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295280" y="1981080"/>
            <a:ext cx="2057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ilson passed several Progressive laws that supported work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419720" y="1685880"/>
            <a:ext cx="4038480" cy="27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 1916, the Workingman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 Compensation Act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provided wages for temporarily disabled civil service employe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 1916, the Adamson Act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provided an eight-hour day for railway work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ounded Rectangle 7"/>
          <p:cNvSpPr/>
          <p:nvPr/>
        </p:nvSpPr>
        <p:spPr>
          <a:xfrm>
            <a:off x="870120" y="1066680"/>
            <a:ext cx="7391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828800" y="2438280"/>
            <a:ext cx="5551560" cy="39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6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In 1913, 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  <a:ea typeface="Arial"/>
              </a:rPr>
              <a:t>coal miners went on strike</a:t>
            </a:r>
            <a:r>
              <a:rPr b="0" lang="en-US" sz="18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in Ludlow, Color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  <a:ea typeface="Arial"/>
              </a:rPr>
              <a:t>company refused their demands</a:t>
            </a:r>
            <a:r>
              <a:rPr b="0" lang="en-US" sz="18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nd evicted workers from company hous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  <a:ea typeface="Arial"/>
              </a:rPr>
              <a:t>Workers set up tents</a:t>
            </a:r>
            <a:r>
              <a:rPr b="0" lang="en-US" sz="18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outside the compan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he Colorado National Guard was call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he Guardsmen fired on the tents and 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  <a:ea typeface="Arial"/>
              </a:rPr>
              <a:t>killed twenty-six peop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ilson sent federal troops to restore order and break up the strik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295280" y="129528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ilson did not always support workers, as the tragic Ludlow Massacre show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9"/>
          <p:cNvSpPr/>
          <p:nvPr/>
        </p:nvSpPr>
        <p:spPr>
          <a:xfrm>
            <a:off x="990720" y="3197160"/>
            <a:ext cx="7315200" cy="305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000">
                  <a:alpha val="55294"/>
                </a:srgbClr>
              </a:gs>
              <a:gs pos="100000">
                <a:srgbClr val="e8eae9"/>
              </a:gs>
            </a:gsLst>
            <a:lin ang="13500000"/>
          </a:gradFill>
          <a:ln w="9360">
            <a:solidFill>
              <a:srgbClr val="ccccff"/>
            </a:solidFill>
            <a:miter/>
          </a:ln>
          <a:effectLst>
            <a:outerShdw dist="125751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6"/>
          <p:cNvSpPr/>
          <p:nvPr/>
        </p:nvSpPr>
        <p:spPr>
          <a:xfrm flipH="1" rot="10800000">
            <a:off x="838800" y="1219320"/>
            <a:ext cx="7391160" cy="1828800"/>
          </a:xfrm>
          <a:prstGeom prst="upArrowCallout">
            <a:avLst>
              <a:gd name="adj1" fmla="val 51684"/>
              <a:gd name="adj2" fmla="val 41033"/>
              <a:gd name="adj3" fmla="val 24505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4495680" y="3417840"/>
            <a:ext cx="3886200" cy="24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he federal governm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offered more protection to Americans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private l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hile at the same time, gained more control over people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 l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143000" y="137160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Progressive Era had a lasting effect on government, the economy, and societ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371600" y="3425760"/>
            <a:ext cx="3429000" cy="20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olitical reforms include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1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initi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1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referend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1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recall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1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19th Amend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Straight Connector 11"/>
          <p:cNvSpPr/>
          <p:nvPr/>
        </p:nvSpPr>
        <p:spPr>
          <a:xfrm>
            <a:off x="1143000" y="4114800"/>
            <a:ext cx="70102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Straight Connector 13"/>
          <p:cNvSpPr/>
          <p:nvPr/>
        </p:nvSpPr>
        <p:spPr>
          <a:xfrm>
            <a:off x="4343400" y="3351240"/>
            <a:ext cx="0" cy="26686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762120" y="1600200"/>
            <a:ext cx="7467480" cy="441972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39"/>
          <p:cNvSpPr/>
          <p:nvPr/>
        </p:nvSpPr>
        <p:spPr>
          <a:xfrm>
            <a:off x="53352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rogressive Era Legislation and Amend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06560" y="1596960"/>
          <a:ext cx="7162560" cy="60984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Sherman Antitrust Act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89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Outlawed monopolies and practices that restrained t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006560" y="2238480"/>
          <a:ext cx="7162560" cy="57924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Reclamation Act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d for federal irrigation projects in arid Western st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006560" y="2860560"/>
          <a:ext cx="7162560" cy="62244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Elkins Ac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9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Imposed fines on railroads that gave special rates to favored shipp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006560" y="3519360"/>
          <a:ext cx="7162560" cy="54936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Hepburn Ac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9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Allowed the government to regulate and sets maximum rates for railroa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006560" y="4098960"/>
          <a:ext cx="7162560" cy="61416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Meat Inspection Ac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9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Provided federal inspection of packing plants and meat sold across state l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006560" y="4740120"/>
          <a:ext cx="7162560" cy="65592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Pure Food and Drug Ac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9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Provided federal inspection of foods, medicines for pu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006560" y="5445000"/>
          <a:ext cx="7162560" cy="54936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Sixteenth  Amend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91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Gave Congress the power to collect an income t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762120" y="1600200"/>
            <a:ext cx="7467480" cy="441972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39"/>
          <p:cNvSpPr/>
          <p:nvPr/>
        </p:nvSpPr>
        <p:spPr>
          <a:xfrm>
            <a:off x="53352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rogressive Era Legislation and Amendment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(continue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06560" y="1596960"/>
          <a:ext cx="7162560" cy="60984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Seventeenth Amendment</a:t>
                      </a: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Verdana"/>
                          <a:ea typeface="MS Pゴシック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91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Provided for the direct election of Senators by the voters of each 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006560" y="2238480"/>
          <a:ext cx="7162560" cy="54900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Underwood Tariff Act</a:t>
                      </a:r>
                      <a:br>
                        <a:rPr sz="16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91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Lowered tariffs on imported goods, established a graduated income t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006560" y="2816280"/>
          <a:ext cx="7162560" cy="62208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Federal Reserve Act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191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Created the Federal Reserve Board to oversee banks and reserve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006560" y="3519360"/>
          <a:ext cx="7162560" cy="59544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Federal Trade Commission Ac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91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Established the Federal Trade Commission to monitor 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006560" y="4098960"/>
          <a:ext cx="7162560" cy="61416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Clayton Antitrust Act</a:t>
                      </a:r>
                      <a:br>
                        <a:rPr sz="16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91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Spelled out specific activities that businesses can not engage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006560" y="4740120"/>
          <a:ext cx="7162560" cy="65592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Eighteenth Amend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9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Banned the making, selling, or transporting of alcoholic bever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006560" y="5445000"/>
          <a:ext cx="7162560" cy="549360"/>
        </p:xfrm>
        <a:graphic>
          <a:graphicData uri="http://schemas.openxmlformats.org/drawingml/2006/table">
            <a:tbl>
              <a:tblPr/>
              <a:tblGrid>
                <a:gridCol w="2954160"/>
                <a:gridCol w="420840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Nineteenth Amend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(19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66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Gave women the right to vote in all ele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4495680" y="1279440"/>
            <a:ext cx="4038840" cy="46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gressive management of natural resources has affected our environment including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national parks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ams, and fore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gressive legislation has profoundly affected our economy including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antitrust laws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th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Federal Reserve System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and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consumer prote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ater distribution remains a hotly debated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914400" y="511812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esident Roosevelt and  conservationist John Muir at Yosemite National Par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8" descr="2668722"/>
          <p:cNvPicPr/>
          <p:nvPr/>
        </p:nvPicPr>
        <p:blipFill>
          <a:blip r:embed="rId1"/>
          <a:stretch/>
        </p:blipFill>
        <p:spPr>
          <a:xfrm>
            <a:off x="838080" y="1219320"/>
            <a:ext cx="30718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ounded Rectangle 9"/>
          <p:cNvSpPr/>
          <p:nvPr/>
        </p:nvSpPr>
        <p:spPr>
          <a:xfrm>
            <a:off x="1981080" y="3962520"/>
            <a:ext cx="6400800" cy="144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000">
                  <a:alpha val="55294"/>
                </a:srgbClr>
              </a:gs>
              <a:gs pos="100000">
                <a:srgbClr val="e8eae9"/>
              </a:gs>
            </a:gsLst>
            <a:lin ang="13500000"/>
          </a:gradFill>
          <a:ln w="9360">
            <a:solidFill>
              <a:srgbClr val="ccccff"/>
            </a:solidFill>
            <a:miter/>
          </a:ln>
          <a:effectLst>
            <a:outerShdw dist="71785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ounded Rectangle 7"/>
          <p:cNvSpPr/>
          <p:nvPr/>
        </p:nvSpPr>
        <p:spPr>
          <a:xfrm>
            <a:off x="762120" y="1676520"/>
            <a:ext cx="647676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1066680" y="1812960"/>
            <a:ext cx="609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any issues remain today involving dishonest sellers, unfair employment practices, and problems in schools, cities, the environment, and public heal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2330280" y="4175280"/>
            <a:ext cx="589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gressives succeeded in establishing the idea that government can take action in these are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455760" y="137016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135080" y="2209680"/>
            <a:ext cx="6873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aluate what Wilson hoped to do with his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w Freedom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cribe Wilso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efforts to regulate the econom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ess the legacy of the Progressive Er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5760" y="137016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800280" y="2057400"/>
            <a:ext cx="773424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110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Woodrow Wils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rogressive Democrat elected President in 191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110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ew Freedom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Wilso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program to place strict government controls on corpor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110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ixteenth Amendmen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1913 constitutional amendment that gave Congress the power to impose an income ta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110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Federal Reserve Ac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1913 law that placed the national banks under the control of a Federal Reserve Boar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455760" y="13701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762120" y="2133720"/>
            <a:ext cx="777240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110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Federal Trade Commiss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(FTC)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overnment agency established in 1914 to identify monopolistic business practices, false advertising, and dishonest label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110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layton Anti-trust Ac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strengthened anti-trust laws by spelling out specific practices in which businesses could not eng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2"/>
          <p:cNvSpPr/>
          <p:nvPr/>
        </p:nvSpPr>
        <p:spPr>
          <a:xfrm>
            <a:off x="1371600" y="2971800"/>
            <a:ext cx="6477120" cy="26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oodrow Wilson used the expanded power of the presidency to promote a far-reaching reform agend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ome of Wilso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economic and antitrust measures are still important in America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life toda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609480" y="1752480"/>
            <a:ext cx="7696440" cy="898200"/>
            <a:chOff x="609480" y="1752480"/>
            <a:chExt cx="7696440" cy="898200"/>
          </a:xfrm>
        </p:grpSpPr>
        <p:sp>
          <p:nvSpPr>
            <p:cNvPr id="62" name="Rectangle 11"/>
            <p:cNvSpPr/>
            <p:nvPr/>
          </p:nvSpPr>
          <p:spPr>
            <a:xfrm>
              <a:off x="1295280" y="1752480"/>
              <a:ext cx="701064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What steps did Wilson take to increase the government</a:t>
              </a:r>
              <a:r>
                <a:rPr b="1" lang="ja-JP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’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s role in the economy?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1"/>
            <a:stretch/>
          </p:blipFill>
          <p:spPr>
            <a:xfrm>
              <a:off x="609480" y="1828440"/>
              <a:ext cx="523080" cy="554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2"/>
          <p:cNvSpPr/>
          <p:nvPr/>
        </p:nvSpPr>
        <p:spPr>
          <a:xfrm>
            <a:off x="1066680" y="1324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12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he Republican Party was split</a:t>
            </a:r>
            <a:r>
              <a:rPr b="0" lang="en-US" sz="22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between Progressives who backed Theodore Roosevelt and those loyal to incumbent William Howard Taf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029200" y="2971800"/>
            <a:ext cx="32367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split allowe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Woodrow Wilson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the Democrat, to win easily in the Electoral College, though he did not receive a majority of the popular vot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7" descr="2696038_edit"/>
          <p:cNvPicPr/>
          <p:nvPr/>
        </p:nvPicPr>
        <p:blipFill>
          <a:blip r:embed="rId1"/>
          <a:stretch/>
        </p:blipFill>
        <p:spPr>
          <a:xfrm>
            <a:off x="1854360" y="2666880"/>
            <a:ext cx="24127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1"/>
          <p:cNvSpPr/>
          <p:nvPr/>
        </p:nvSpPr>
        <p:spPr>
          <a:xfrm>
            <a:off x="1600200" y="1676520"/>
            <a:ext cx="5638680" cy="388620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45929" dir="337112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676520" y="2362320"/>
            <a:ext cx="541008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Aft>
                <a:spcPts val="22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erved as a college professor and President of Princeton University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Aft>
                <a:spcPts val="22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erved as Governor of New Jersey with a reforming agend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Aft>
                <a:spcPts val="22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as the first man born in the South to be elected President in almost sixty yea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086280" y="1752480"/>
            <a:ext cx="25171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oodrow Wils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Straight Connector 7"/>
          <p:cNvSpPr/>
          <p:nvPr/>
        </p:nvSpPr>
        <p:spPr>
          <a:xfrm>
            <a:off x="1905120" y="2286000"/>
            <a:ext cx="5029200" cy="1440"/>
          </a:xfrm>
          <a:prstGeom prst="line">
            <a:avLst/>
          </a:prstGeom>
          <a:ln w="19080">
            <a:solidFill>
              <a:srgbClr val="eb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5486400" y="3581280"/>
            <a:ext cx="2895480" cy="2133720"/>
          </a:xfrm>
          <a:prstGeom prst="rect">
            <a:avLst/>
          </a:prstGeom>
          <a:gradFill rotWithShape="0">
            <a:gsLst>
              <a:gs pos="0">
                <a:srgbClr val="ffcc66">
                  <a:alpha val="75294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AutoShape 5"/>
          <p:cNvSpPr/>
          <p:nvPr/>
        </p:nvSpPr>
        <p:spPr>
          <a:xfrm flipH="1" rot="5400000">
            <a:off x="2056680" y="2285280"/>
            <a:ext cx="2133720" cy="4724280"/>
          </a:xfrm>
          <a:prstGeom prst="upArrowCallout">
            <a:avLst>
              <a:gd name="adj1" fmla="val 30531"/>
              <a:gd name="adj2" fmla="val 26778"/>
              <a:gd name="adj3" fmla="val 25944"/>
              <a:gd name="adj4" fmla="val 30070"/>
            </a:avLst>
          </a:prstGeom>
          <a:gradFill rotWithShape="0">
            <a:gsLst>
              <a:gs pos="0">
                <a:srgbClr val="83d7e5"/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914400" y="380988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ilson promised to bring down the 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“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riple wall of privilege,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tariffs, banks, and trus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5715000" y="38098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 1913, the Underwood Tariff Act cut tariffs, leading to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lower consumer pric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85800" y="153972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ilson felt that laws should not allow the strong to crush the weak. His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ew Freedo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lan was similar to Roosevel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New Nationalism. It called for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trict government controls over corporation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6"/>
          <p:cNvSpPr/>
          <p:nvPr/>
        </p:nvSpPr>
        <p:spPr>
          <a:xfrm flipH="1" rot="10800000">
            <a:off x="991080" y="1294920"/>
            <a:ext cx="7085160" cy="2514600"/>
          </a:xfrm>
          <a:prstGeom prst="upArrowCallout">
            <a:avLst>
              <a:gd name="adj1" fmla="val 45764"/>
              <a:gd name="adj2" fmla="val 42368"/>
              <a:gd name="adj3" fmla="val 24505"/>
              <a:gd name="adj4" fmla="val 63206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1400040" y="138744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Underwood Tariff Act also provided for the creation of a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graduated income tax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first permitted in 1913, under the newly ratifie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ixteenth Amendment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295280" y="3971880"/>
            <a:ext cx="6553440" cy="18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gressives like Wilson felt it was only fair that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the wealthy should pay a higher percentage of their income in taxes than the po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Revenues from the income tax more than offset the loss of funds from the lowered tariff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5:26:32Z</dcterms:created>
  <dc:creator>Sam Lewbel</dc:creator>
  <dc:description/>
  <dc:language>en-US</dc:language>
  <cp:lastModifiedBy>Mark Scacewater</cp:lastModifiedBy>
  <cp:lastPrinted>2008-05-21T18:42:16Z</cp:lastPrinted>
  <dcterms:modified xsi:type="dcterms:W3CDTF">2012-09-30T20:34:53Z</dcterms:modified>
  <cp:revision>1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